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E8C-3C1B-41F4-8368-456F76D0A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Effects on Ou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– To have the information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effects of these on the health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tis and emphys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 disease + damage to 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gnant smokers often have low weight babies due to carbon monoxide in the blood reducing the oxygen supply to the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D3C-6528-4E4D-87AE-B0A73B1E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C98-0306-41E6-A80F-328788D0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EF4-46C5-4030-AAF0-138AB88D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302-17C6-4A4A-8277-3FB1E12F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2EEE-1081-442B-A7EF-B27D8F3E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73FA-C1A9-47E0-9090-32002A3E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299-5E7E-4FDA-9746-58E1E02D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C0EE-6641-4B61-A199-148D1DCE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232-379A-4092-881E-1863DBE5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A2D5-B1B9-42AC-8CB4-AF2E85DA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3883-EF50-419A-AF30-6F50A79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38-09F4-4B52-BDBE-9B88C807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9384-F866-449A-AF24-1B3D34B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D686-7B3B-4A61-8332-2568D72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7073-4D1D-4E90-8409-A8B4729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2356-5020-4A9C-8161-B7F67752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9EC1-5CA8-45F1-B967-C81D3990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9C3-33FC-4B67-94A5-5C61A643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A5E-0F67-406A-AD44-5CE2B99D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60D-2FA1-4FF2-9682-8351DEA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200-4AFD-45BC-811D-4E435241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EFA-4CAF-41C1-B173-37962D83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B6E-91A6-497D-87D4-3AFDEC54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887-8F6D-4F28-8770-7FC1799A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35D5-23FA-4F53-AAFB-0C8CDC48C7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2D2-FBEF-4FAF-816B-29FD5DFEDD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Drugs Effects on Our Bod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787640" y="3962520"/>
            <a:ext cx="3746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 are stewards of ourselve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ystems"/>
          <p:cNvPicPr/>
          <p:nvPr/>
        </p:nvPicPr>
        <p:blipFill>
          <a:blip r:embed="rId1"/>
          <a:stretch/>
        </p:blipFill>
        <p:spPr>
          <a:xfrm>
            <a:off x="971640" y="3141720"/>
            <a:ext cx="3095640" cy="2916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ims – To have the information 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Sol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Alcoh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obac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</a:rPr>
              <a:t>The effects of these on the health of the bod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olv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ffect behavi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damage the lungs,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pr-sbs-sealer-gallon"/>
          <p:cNvPicPr/>
          <p:nvPr/>
        </p:nvPicPr>
        <p:blipFill>
          <a:blip r:embed="rId1"/>
          <a:stretch/>
        </p:blipFill>
        <p:spPr>
          <a:xfrm>
            <a:off x="1962000" y="1844640"/>
            <a:ext cx="2335320" cy="2592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lcoh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effect on the nervous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lows down reaction 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uses loss of self control + even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y damage the liver and b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drink"/>
          <p:cNvPicPr/>
          <p:nvPr/>
        </p:nvPicPr>
        <p:blipFill>
          <a:blip r:embed="rId1"/>
          <a:stretch/>
        </p:blipFill>
        <p:spPr>
          <a:xfrm>
            <a:off x="457200" y="2282760"/>
            <a:ext cx="4038480" cy="3164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Picture 7" descr="emphy"/>
          <p:cNvPicPr/>
          <p:nvPr/>
        </p:nvPicPr>
        <p:blipFill>
          <a:blip r:embed="rId1"/>
          <a:stretch/>
        </p:blipFill>
        <p:spPr>
          <a:xfrm>
            <a:off x="4932360" y="1989000"/>
            <a:ext cx="3343320" cy="26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emphysema_what"/>
          <p:cNvPicPr/>
          <p:nvPr/>
        </p:nvPicPr>
        <p:blipFill>
          <a:blip r:embed="rId2"/>
          <a:stretch/>
        </p:blipFill>
        <p:spPr>
          <a:xfrm>
            <a:off x="801720" y="1052640"/>
            <a:ext cx="2698560" cy="45320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1"/>
          <p:cNvSpPr/>
          <p:nvPr/>
        </p:nvSpPr>
        <p:spPr>
          <a:xfrm>
            <a:off x="3708360" y="3213000"/>
            <a:ext cx="936720" cy="649440"/>
          </a:xfrm>
          <a:prstGeom prst="rightArrow">
            <a:avLst>
              <a:gd name="adj1" fmla="val 50000"/>
              <a:gd name="adj2" fmla="val 3605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6" descr="heart_attack"/>
          <p:cNvPicPr/>
          <p:nvPr/>
        </p:nvPicPr>
        <p:blipFill>
          <a:blip r:embed="rId1"/>
          <a:stretch/>
        </p:blipFill>
        <p:spPr>
          <a:xfrm>
            <a:off x="1919160" y="1125360"/>
            <a:ext cx="4824720" cy="4983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6" descr="ortho-WH-Cigarette"/>
          <p:cNvPicPr/>
          <p:nvPr/>
        </p:nvPicPr>
        <p:blipFill>
          <a:blip r:embed="rId1"/>
          <a:stretch/>
        </p:blipFill>
        <p:spPr>
          <a:xfrm>
            <a:off x="826920" y="1197000"/>
            <a:ext cx="3656160" cy="49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Prem%20baby%20230x150"/>
          <p:cNvPicPr/>
          <p:nvPr/>
        </p:nvPicPr>
        <p:blipFill>
          <a:blip r:embed="rId2"/>
          <a:stretch/>
        </p:blipFill>
        <p:spPr>
          <a:xfrm>
            <a:off x="5796000" y="2781360"/>
            <a:ext cx="2921040" cy="190512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8"/>
          <p:cNvSpPr/>
          <p:nvPr/>
        </p:nvSpPr>
        <p:spPr>
          <a:xfrm>
            <a:off x="4716360" y="3860640"/>
            <a:ext cx="935280" cy="720720"/>
          </a:xfrm>
          <a:prstGeom prst="rightArrow">
            <a:avLst>
              <a:gd name="adj1" fmla="val 50000"/>
              <a:gd name="adj2" fmla="val 3244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Tobac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bacco contains substances which cau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Lung c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bronchiti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emphyse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Heart dise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+ damage to blood vess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gnant smokers often have low weight babies due to </a:t>
            </a:r>
            <a:r>
              <a:rPr b="0" lang="en-GB" sz="3000" spc="-1" strike="noStrike">
                <a:solidFill>
                  <a:srgbClr val="0000ff"/>
                </a:solidFill>
                <a:latin typeface="Arial"/>
              </a:rPr>
              <a:t>carbon monoxid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in the blood reducing the oxygen supply to the bab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( Carbon monoxide irreversibly combines with the haemoglobin in red blood cell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9:11:34Z</dcterms:created>
  <dc:creator>John</dc:creator>
  <dc:description/>
  <dc:language>en-US</dc:language>
  <cp:lastModifiedBy>LEGION2</cp:lastModifiedBy>
  <dcterms:modified xsi:type="dcterms:W3CDTF">2016-01-14T09:07:35Z</dcterms:modified>
  <cp:revision>6</cp:revision>
  <dc:subject/>
  <dc:title>Drugs Effects on Our Bodies</dc:title>
</cp:coreProperties>
</file>